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D313-5667-42D2-B86C-1E7A3DDD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365724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35680" y="3959640"/>
            <a:ext cx="365724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7E7-95B4-4046-873C-49F2AE87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840" y="152388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5680" y="395964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09840" y="395964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9651-5335-498C-9173-CC4EFCFA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117756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672640" y="1523880"/>
            <a:ext cx="117756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909240" y="1523880"/>
            <a:ext cx="117756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35680" y="3959640"/>
            <a:ext cx="117756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672640" y="3959640"/>
            <a:ext cx="117756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3909240" y="3959640"/>
            <a:ext cx="117756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837E-FD26-4429-991C-6499BCAF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598D-4AF2-44AE-8AA5-128F2015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49F2-7747-4899-8039-C838947D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44A7-4EAC-4B7C-9927-579EE2CA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1784520" cy="46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09840" y="1523880"/>
            <a:ext cx="1784520" cy="46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56D0-32BC-4FE6-9424-3B7BADE1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6EC1-04EA-478C-AB18-0B7A83D9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32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6DE0-1C2B-4B94-9627-BD5CF5DB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09840" y="1523880"/>
            <a:ext cx="1784520" cy="46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964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3144-4FFA-46FF-83DC-928C5216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D54A-6F6D-4D9A-8872-CEA90F70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1784520" cy="46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09840" y="152388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09840" y="395964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12A0-D9CB-44BE-8E8B-3FF1DC17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9840" y="152388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9640"/>
            <a:ext cx="365724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B365-335E-4CD3-81BF-F09B9110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365724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9640"/>
            <a:ext cx="365724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8FA8-EC48-4065-B179-FBA0CFC3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09840" y="152388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964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309840" y="395964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3DEE-4F49-42CA-9231-BE10FEFC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117756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672640" y="1523880"/>
            <a:ext cx="117756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909240" y="1523880"/>
            <a:ext cx="117756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9640"/>
            <a:ext cx="117756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672640" y="3959640"/>
            <a:ext cx="117756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3909240" y="3959640"/>
            <a:ext cx="117756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2AC4-31F8-4B0D-ADCD-B7E65273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8F2B6-7536-4EEA-B5F5-D12ED1B1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7A799-373D-45AC-9B15-A859B11B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417FB-F42C-4CB6-907E-A5A99EB4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1784520" cy="46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09840" y="1523880"/>
            <a:ext cx="1784520" cy="46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A1EC5-954C-4D02-B93C-FD1CF2A3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4D2BD-2469-40E8-932A-8C512661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CD9-23CE-4FC4-9835-7C22493F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5680" y="27432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327F3-E2B4-4F8B-B693-963BA36D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09840" y="1523880"/>
            <a:ext cx="1784520" cy="46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5680" y="395964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46D8B-E8C4-4554-83A5-E8B76BFE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1784520" cy="46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09840" y="152388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309840" y="395964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9E24B-248A-4CCE-B4CA-2B6A0A1C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09840" y="152388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5680" y="3959640"/>
            <a:ext cx="365724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46D72-2AD1-4924-87CC-4F2E3B7A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365724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5680" y="3959640"/>
            <a:ext cx="365724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0263D-1582-4BE1-8D28-E4D805ED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09840" y="152388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5680" y="395964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309840" y="395964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A1FFF-7D3A-4EEC-9EF9-6C52D985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117756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672640" y="1523880"/>
            <a:ext cx="117756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909240" y="1523880"/>
            <a:ext cx="117756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5680" y="3959640"/>
            <a:ext cx="117756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672640" y="3959640"/>
            <a:ext cx="117756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3909240" y="3959640"/>
            <a:ext cx="117756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8B5A8-210B-46E8-B1D2-727E84CC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1784520" cy="46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09840" y="1523880"/>
            <a:ext cx="1784520" cy="46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022-C30B-4EE0-9C1E-ED4F7232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315-F2FA-446B-8D7B-3AF65893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35680" y="27432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C53-0D81-429B-AA2C-C8DE2468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09840" y="1523880"/>
            <a:ext cx="1784520" cy="46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35680" y="395964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9E12-F94F-429F-9FF9-A49E6EEF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1784520" cy="46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09840" y="152388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09840" y="395964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BF1B-5BC2-48AC-ADCF-42D57AB9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09840" y="1523880"/>
            <a:ext cx="17845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5680" y="3959640"/>
            <a:ext cx="365724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DD69-810D-4AA3-80C1-4172D7D5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0819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96FBEAC-8771-4BF2-BFA0-3DA19B0E0244}" type="slidenum">
              <a:rPr b="0" lang="ru-RU" sz="1200" spc="-1" strike="noStrike">
                <a:solidFill>
                  <a:srgbClr val="b5a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0819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8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014840" y="0"/>
            <a:ext cx="81288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F7A90D5-D489-44C9-BE1A-1B8E3089491E}" type="slidenum">
              <a:rPr b="0" lang="ru-RU" sz="1200" spc="-1" strike="noStrike">
                <a:solidFill>
                  <a:srgbClr val="b5a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0819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6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88704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097280" indent="-17388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1298520" indent="-18288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527616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88704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097280" indent="-17388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1298520" indent="-18288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7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5DA0C14-2D41-47EF-B6DC-EB974C255985}" type="slidenum">
              <a:rPr b="0" lang="ru-RU" sz="1200" spc="-1" strike="noStrike">
                <a:solidFill>
                  <a:srgbClr val="b5a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5680" y="642960"/>
            <a:ext cx="749772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5680" y="692640"/>
            <a:ext cx="7497720" cy="33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Arial"/>
              </a:rPr>
              <a:t>Тема урока: 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             </a:t>
            </a:r>
            <a:r>
              <a:rPr b="1" lang="ru-RU" sz="4800" spc="-1" strike="noStrike">
                <a:solidFill>
                  <a:srgbClr val="c00000"/>
                </a:solidFill>
                <a:latin typeface="Georgia"/>
              </a:rPr>
              <a:t>«Решение квадратных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Georgia"/>
              </a:rPr>
              <a:t>              </a:t>
            </a:r>
            <a:r>
              <a:rPr b="1" lang="ru-RU" sz="4800" spc="-1" strike="noStrike">
                <a:solidFill>
                  <a:srgbClr val="c00000"/>
                </a:solidFill>
                <a:latin typeface="Georgia"/>
              </a:rPr>
              <a:t>уравнений» 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357200" y="4077000"/>
            <a:ext cx="71434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Comic Sans MS"/>
              </a:rPr>
              <a:t>Если ты услышишь, что кто-то не любит математику, не вер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Comic Sans MS"/>
              </a:rPr>
              <a:t>Её нельзя не любить - её можно только не знать.</a:t>
            </a:r>
            <a:r>
              <a:rPr b="0" i="1" lang="ru-RU" sz="2400" spc="-1" strike="noStrike">
                <a:solidFill>
                  <a:srgbClr val="006600"/>
                </a:solidFill>
                <a:latin typeface="Comic Sans MS"/>
              </a:rPr>
              <a:t>                                     (Лобачевск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4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5"/>
                                    </p:cond>
                                  </p:end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141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428760"/>
            <a:ext cx="7429320" cy="49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24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Вопросы теоретической разминки:</a:t>
            </a:r>
            <a:br>
              <a:rPr sz="40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24640"/>
            <a:ext cx="7857720" cy="55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58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Какое уравнение называется квадратным уравнением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58212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х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х +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= 0, где х – переменная, а, в, с-числ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58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Что значит решить уравнение?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567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айти корни или  доказать, что корней нет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5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Что является корнем уравнения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567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Значение переменной, при котором равенство верн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5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Какой из коэффициентов квадратного уравнения никогда не может быть равным нулю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?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56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 = 0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5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Перечислите виды квадратных уравнений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567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лные и неполные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5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Какое квадратное уравнение называется приведённым квадратным  уравнением?   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56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 = 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5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5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Прямая соединительная линия 5"/>
          <p:cNvCxnSpPr/>
          <p:nvPr/>
        </p:nvCxnSpPr>
        <p:spPr>
          <a:xfrm flipH="1">
            <a:off x="6516000" y="3645000"/>
            <a:ext cx="214560" cy="214560"/>
          </a:xfrm>
          <a:prstGeom prst="straightConnector1">
            <a:avLst/>
          </a:prstGeom>
          <a:ln w="38100">
            <a:solidFill>
              <a:srgbClr val="c00000">
                <a:alpha val="99000"/>
              </a:srgbClr>
            </a:solidFill>
            <a:round/>
          </a:ln>
        </p:spPr>
      </p:cxnSp>
    </p:spTree>
  </p:cSld>
  <p:transition spd="med" advTm="4000">
    <p:cover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1500120" y="188640"/>
            <a:ext cx="6357600" cy="69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акие из уравнений являются квадратны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.     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3Х + 2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.   - 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9Х - 8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.     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.     Х (Х – 3)(Х + 5)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).     6 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64Х  = 0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).   - 8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12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).     6х – 8 = 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Х + 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 rot="10800000">
            <a:off x="714600" y="928800"/>
            <a:ext cx="914364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7"/>
          <p:cNvSpPr/>
          <p:nvPr/>
        </p:nvSpPr>
        <p:spPr>
          <a:xfrm>
            <a:off x="4071960" y="5572080"/>
            <a:ext cx="3714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Ответ:  1 2 3 5 6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4000">
    <p:cover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5"/>
          <p:cNvGraphicFramePr/>
          <p:nvPr/>
        </p:nvGraphicFramePr>
        <p:xfrm>
          <a:off x="4514760" y="3321000"/>
          <a:ext cx="114120" cy="2156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6"/>
          <p:cNvGraphicFramePr/>
          <p:nvPr/>
        </p:nvGraphicFramePr>
        <p:xfrm>
          <a:off x="4514760" y="3321000"/>
          <a:ext cx="114120" cy="2156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13"/>
          <p:cNvSpPr/>
          <p:nvPr/>
        </p:nvSpPr>
        <p:spPr>
          <a:xfrm>
            <a:off x="1071360" y="2643120"/>
            <a:ext cx="4105080" cy="356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а) 6х</a:t>
            </a:r>
            <a:r>
              <a:rPr b="1" i="1" lang="ru-RU" sz="2400" spc="-1" strike="noStrike" baseline="30000">
                <a:solidFill>
                  <a:srgbClr val="0000cc"/>
                </a:solidFill>
                <a:latin typeface="Times New Roman"/>
              </a:rPr>
              <a:t>2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 –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х  + 4  = 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б) 12х  -  х</a:t>
            </a:r>
            <a:r>
              <a:rPr b="1" i="1" lang="ru-RU" sz="2400" spc="-1" strike="noStrike" baseline="30000">
                <a:solidFill>
                  <a:srgbClr val="0000cc"/>
                </a:solidFill>
                <a:latin typeface="Times New Roman"/>
              </a:rPr>
              <a:t>2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 +  7  = 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в) 8 + 5х</a:t>
            </a:r>
            <a:r>
              <a:rPr b="1" i="1" lang="ru-RU" sz="24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г)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х – 6х</a:t>
            </a:r>
            <a:r>
              <a:rPr b="1" i="1" lang="ru-RU" sz="24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д) -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х + х</a:t>
            </a:r>
            <a:r>
              <a:rPr b="1" i="1" lang="ru-RU" sz="24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 = 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5429160" y="2643120"/>
            <a:ext cx="3428640" cy="252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а = 6    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 = -1   с 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а = -1  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 = 12    с =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а = 5   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 = 0     с =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а = -6 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 = 1     с = 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а =1  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 = -1   с = 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1835280" y="1214280"/>
            <a:ext cx="597672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3200" spc="-1" strike="noStrike">
                <a:solidFill>
                  <a:srgbClr val="cc3300"/>
                </a:solidFill>
                <a:latin typeface="Comic Sans MS"/>
              </a:rPr>
              <a:t>Определите коэффициен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3200" spc="-1" strike="noStrike">
                <a:solidFill>
                  <a:srgbClr val="cc3300"/>
                </a:solidFill>
                <a:latin typeface="Comic Sans MS"/>
              </a:rPr>
              <a:t>квадратного уравн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4000">
    <p:cover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2000"/>
          </a:bodyPr>
          <a:p>
            <a:pPr indent="0">
              <a:lnSpc>
                <a:spcPct val="100000"/>
              </a:lnSpc>
              <a:buNone/>
            </a:pPr>
            <a:br>
              <a:rPr sz="4000"/>
            </a:b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Корни какого из уравнений обладают указанным свойством: </a:t>
            </a:r>
            <a:br>
              <a:rPr sz="43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- Сумма корней равна 6, а произведение равно (- 16)?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- Один из корней уравнения 6?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c0654c"/>
                </a:solidFill>
                <a:latin typeface="Arial"/>
              </a:rPr>
              <a:t>- Корни уравнения равны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6160" y="1124640"/>
            <a:ext cx="36572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Урав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ru-RU" sz="2800" spc="-1" strike="noStrike" baseline="30000">
                <a:solidFill>
                  <a:srgbClr val="000066"/>
                </a:solidFill>
                <a:latin typeface="Arial"/>
              </a:rPr>
              <a:t>2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- 6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= 0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ru-RU" sz="2800" spc="-1" strike="noStrike" baseline="30000">
                <a:solidFill>
                  <a:srgbClr val="000066"/>
                </a:solidFill>
                <a:latin typeface="Arial"/>
              </a:rPr>
              <a:t>2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- 10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+ 26 = 0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ru-RU" sz="2800" spc="-1" strike="noStrike" baseline="30000">
                <a:solidFill>
                  <a:srgbClr val="000066"/>
                </a:solidFill>
                <a:latin typeface="Arial"/>
              </a:rPr>
              <a:t>2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- 6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- 16 = 0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ru-RU" sz="2800" spc="-1" strike="noStrike" baseline="30000">
                <a:solidFill>
                  <a:srgbClr val="000066"/>
                </a:solidFill>
                <a:latin typeface="Arial"/>
              </a:rPr>
              <a:t>2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- 2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– 24 = 0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ru-RU" sz="2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+ 24 = 0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cover dir="l"/>
  </p:transition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dian</Template>
  <TotalTime>1122</TotalTime>
  <Application>LibreOffice/7.4.7.2$Linux_X86_64 LibreOffice_project/40$Build-2</Application>
  <AppVersion>15.0000</AppVersion>
  <Words>373</Words>
  <Paragraphs>56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8:09:33Z</dcterms:created>
  <dc:creator>Admin</dc:creator>
  <dc:description/>
  <dc:language>en-US</dc:language>
  <cp:lastModifiedBy>2015</cp:lastModifiedBy>
  <dcterms:modified xsi:type="dcterms:W3CDTF">2015-04-20T20:35:55Z</dcterms:modified>
  <cp:revision>13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5</vt:r8>
  </property>
</Properties>
</file>